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9C06-A9C4-4213-AB89-878BB453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0746-2083-4F27-ADCA-A887DD18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C632-7054-4172-B6AD-FEA35321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BC77-04D7-440C-827D-99DDF133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95BD-0C0B-4869-9BBF-7F5BA674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4FD9-569C-4215-892E-FA417233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B82B-A1F7-419A-9C47-2EC3C360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ABB8-4EFE-460B-84BD-16CAEC22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2DAE-98EB-4105-9867-44377626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A9F5-D18B-4DCF-A78D-84F7D809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7DA2-131E-4E56-9ACE-84DFE0AB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C4A7-EA93-4FC3-AD30-3C259DFA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F462-E872-43B0-B78A-E6394517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7AC2-20A0-4A94-B5A7-2CCD683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2BFF-A17D-43FA-B375-60B91005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E6FF-F6D3-4BD8-B05D-6DAD8317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ADF1-13CC-44BE-BCDD-774141EB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E1AC2-7B6A-4979-94C4-A0AAD13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B38D-D944-4600-8BAD-9FD78CCF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2F61-C718-4CD8-AACE-BFDCB500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AA95-B694-4FDB-A36D-8D6E2C99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32BA-E37D-45A1-9807-BEE0DEAE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03F6-29C0-4F42-8866-5D6A5B2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138F-20CA-4E20-88CC-422A6B9F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18EE-3073-468F-8D32-A0B73A005A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73F7-887B-4AAC-B549-2C8083A87A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Устный журнал.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Синичкин праздник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«Синичкин праздник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295280" y="1752480"/>
            <a:ext cx="64008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6094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1 страница</a:t>
            </a:r>
            <a:br>
              <a:rPr sz="5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12 ноября –Зиновий или Синичкин праздник.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Народная мудрость гласит: «невелика птичка- синичка а и то свой праздник помнит».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В народном календаре этот день считается днём прилёта птиц-зимников. С этого дня в старину начинали развешивать кормушки для птиц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 страница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иничья стайк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ольшая сини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азоре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иннохвостая синица (ополовник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Хохлатая синица (гренадёр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аич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сков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ме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сатая син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3 страница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тичья столова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 птицам живётся зимой: холодно и голодно. Холод ещё не так страшен, страшна зимняя бескормица. Каждая из синиц за день съедает столько насекомых, сколько весит сам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4 страница.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оэтическа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сатая синиц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Не найдёшь синицы ярче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ем усатый наш гусарчи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Жаль, в болотах он живё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остникам одним поё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линнохвостая синица-ополовник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ленький половничек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лозняке домовнича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ам пушист и длиннохвос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мик строил на прирост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мез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мез наш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Речной пернатый ткачик,-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итрый мастер он среди синиц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тростниковый пух свой домик спрячет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лювом свяжет варежку без спиц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5 страница.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Игровая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07T22:40:5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